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06026-198D-436B-A983-3BE329E17BD8}" type="slidenum">
              <a:rPr b="0" lang="zh-CN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DAA9-8F11-4310-AFE2-B7DB91435F15}" type="slidenum">
              <a:rPr b="0" lang="zh-CN" sz="12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44AE9-D6E9-4639-900E-9B7C7801B18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0D43E-CD33-4F90-912F-D036DFA4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A361-9DD4-46CE-AEC4-8BCC97EC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710F-6478-4D1F-92DF-2B7069F969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A2E2-2C33-421E-B223-92F0E6D4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2E159-890C-4547-9DD9-47910939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431E2-6F48-44C5-A88D-520484C47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CFB62-F8EC-4940-9DA4-4DE8A3B4B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4E8FC-5933-4CD7-AD06-281D4FC0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4098B-17A4-4530-9708-A40BD0B8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1F52D-7A23-47F7-BB36-17E5AFC8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A895F-D109-4D74-8F7D-34760A5D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6F1D7-AB4E-42A6-B31A-632D3FD32BF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31640" y="2276640"/>
            <a:ext cx="7127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支持的基本指征与适应证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近期体重下降大于正常体重的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10%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小于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30 g/L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连续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天以上不能正常进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已明确为营养不良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可能产生营养不良或手术并发症的高危者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剂：大分子聚合物、要素膳、特殊配方制剂、组件制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途径：经口和管饲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间歇性输入法、持续性注入法、循环间歇性注入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内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机械并发症、感染并发症、胃肠道并发症、代谢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制剂：葡萄糖、脂肪、氨基酸、维生素、电解质、微量元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途径：周围静脉输注、中心静脉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治疗原则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肠外营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注方式：全营养混合液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otal nutrient admixture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NA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方式、单瓶输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并发症：技术性并发症、代谢并发症、感染性并发症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-1  B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   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患者诊断为机械性肠梗阻、克罗恩病、中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重度营养不良。拟行营养支持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问题：①目前适宜的营养支持方法是什么？可能出现哪些并发症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②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如何观察和护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护理诊断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合作性问题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有误吸的危险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患者咽反射消失、管道位置不好、一次喂入过多等有关。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（有）口腔黏膜改变（的危险）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胃管刺激、黏膜干燥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腹泻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与营养液的配方、浓度、温度、输注速度、置管位置等有关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潜在并发症 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感染，高血糖症和低血糖症，水电解质失衡，高渗性非酮性昏迷，肝功能损害，空气栓塞等。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防止误吸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选择合适的体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明确管道位置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估计胃残留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营养液输入通路在位、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阻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若出现阻塞，可试用胰酶溶液冲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腹泻的发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输注量和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输入营养液的温度应适宜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观察患者肠鸣音、排便的次数和性质，便频、便稀均是不耐受管喂饮食的表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避免营养液污染、变质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识记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说出肠内营养、肠外营养、完全胃肠外营养的定义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列举外科常见的营养不良的类型以及营养支持的适应证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内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其他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做好口腔、鼻腔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注意造口周围皮肤观察及护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病情观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确保营养液的输注顺利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保持周围或中心静脉导管在位通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妥善固定输液管道，避免导管受压、扭曲或滑脱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按时、按量补充营养素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9596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35480" indent="-28296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3148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感染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格遵守无菌原则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更换管道及静脉营养袋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营养液现用现配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勿在配好的静脉营养液中添加任何成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584000" indent="-22608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遵医嘱输入抗菌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预防空气栓塞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锁骨下静脉穿刺时，置患者于头低平卧位，屏气，使上腔静脉充盈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置管成功后及时、妥善连接输液管道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若疑有空气栓子，应嘱患者左侧卧位，头低脚高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维持血糖水平稳定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适当的速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随时监测血糖水平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低血糖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高渗性非酮性昏迷及时处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措施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肠外营养支持护理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严密观察病情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全身情况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定期对患者进行详细的营养评估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观察并记录出入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支持的基本原则是凡胃肠道功能正常或存在部分胃肠道功能者，在营养支持时应首选肠内营养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营养状况评估应综合病史、体格检查、实验室检查等诸多方面，不同的评价指标反映的营养问题可不相同，故应综合多方面因素进行判断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本章小结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内营养支持的主要并发症为机械并发症、代谢并发症、胃肠并发症、其中最常见的是胃肠道并发症，最严重并发症是误吸。应加强胃肠道并发症以及误吸的观察与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．肠外营养支持的主要并发症包括技术性并发症、代谢并发症和感染并发症。其中空气栓塞和高渗性非酮性昏迷是最严重的并发症，应加强其观察和护理。此外，还应重视导管性脓毒症预防和护理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9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胃癌行胃大部切除术，术中放置鼻空肠营养管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天经营养管输入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后出现腹胀、腹泻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引起上述问题的主要原因是什么？如何预防和处理患者出现上述问题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胃大部切除术后第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肠道功能尚未完全恢复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属于均衡性整蛋白型肠内营养制剂，该患者在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500m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后出现腹胀、腹泻，应首先考虑出现胃肠道并发症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使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“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安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”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时应注意输注量和速度，开始时输入速度要慢，浓度要低，同时温度也不宜过低。此时，应减慢输注速度，观察患者反应，必要时暂停输注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学习目标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解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解释常用营养指标的临床意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分析肠内与肠外营养支持常见并发症的原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运用：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评估营养支持患者并为其制订护理计划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思考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男性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岁，因小肠扭转行小肠部分切除、肠吻合术。术中留置中心静脉导管。术后次日开始经中心静脉导管输注全营养混合液。术后第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日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：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00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术后患者在输注营养液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000ml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时，出现口渴、头痛、神志不清，尿量增多。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请问：该患者目前发生了什么并发症？此种并发症应如何处理？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9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解析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该患者因小肠扭转行小肠部分切除、肠吻合术术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天，机体仍处于应激状态，对葡萄糖的利用不佳，在输注营养液过程中出现口渴、头痛、神志不清，尿量增多，可能因血糖过高导致高渗性非酮性昏迷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应立即停止营养液输注，测血糖，明确原因。若为高渗性非酮性昏迷，应输注低渗或等渗氯化钠溶液，以降低血浆渗透压，同时输入胰岛素，以降低血糖水平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题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女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经鼻胃管行肠内营养支持，灌注营养液时应将患者置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半坐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左侧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右侧卧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垫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去枕平卧位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男性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岁，因短肠综合征，拟行长期胃肠外营养支持，其营养管留置部位应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手部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足部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股静脉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下腔静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外科患者营养不良的特点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蛋白质不足为主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以能量不足为主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及矿物质摄入不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蛋白质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-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能量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摄入不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在完全胃肠外营养中最佳的能源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复合氨基酸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维生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乳剂及葡萄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矿物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微量元素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无菌环境下配置的要素饮食，其有效时间应小于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4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8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12h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4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36h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全胃肠外营养支持患者可能发生的最严重的代谢并发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低血糖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脂肪肝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肝功能损害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渗性非酮性昏迷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高血糖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以下关于肠外营养的护理正确的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首选中心静脉途径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可经静脉营养管输血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不要经中心静脉导管取血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怀疑导管败血症时，应用抗菌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葡萄糖、氨基酸和脂肪乳最好单独输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自测练习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反映机体脂肪或能量贮备的人体测量指标是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A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重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B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体质指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C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皮褶厚度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	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D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周径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E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．上臂肌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内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E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胃肠道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肠外营养（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arenteral nutritio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PN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将营养物质经静脉途径供给患者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患者所需的全部营养物质都经静脉供给称为完全胃肠外营养（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otal parenteral nutritio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TPN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参考答案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A   2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3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4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 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5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 6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7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D  8</a:t>
            </a: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．</a:t>
            </a: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50920" y="105264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女性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岁。因腹痛、恶心、呕吐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入院。患者于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月前在无明显诱因下出现纳差，饱胀感，餐后常出现恶心呕吐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来体重下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8.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患者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个月前因克罗恩病行小肠切除、回肠造口术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检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T 36.5℃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P 6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 18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次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分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BP 100/55mmH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身高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65cm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体重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65k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急性面容，心肺无特殊，腹部稍隆，未见胃、肠型，腹部未扪及肿块，全腹轻压痛，肠鸣音亢进，移动性浊音阳性，四肢、关节活动正常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案例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3-1A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辅助检查：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RBC 3.35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12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Hb 10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WBC 9.8×10</a:t>
            </a:r>
            <a:r>
              <a:rPr b="0" lang="en-US" sz="3200" spc="-1" strike="noStrike" baseline="30000">
                <a:solidFill>
                  <a:srgbClr val="046ca6"/>
                </a:solidFill>
                <a:latin typeface="华文新魏"/>
              </a:rPr>
              <a:t>9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ALB 26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前清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0.05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转铁蛋白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.1g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血清钠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41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钾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3.6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，氯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95 mmol/L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。腹平片提示肠梗阻，腹部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CT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检查提示腹腔及盆腔包裹性积液。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问题：围绕该患者的营养问题应收集哪些资料？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804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临床表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格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体质测量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重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体质指数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ody mass index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BMI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三头肌皮褶厚度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riceps skinfold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TSF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臂肌围（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rm muscle circumference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，</a:t>
            </a:r>
            <a:r>
              <a:rPr b="0" lang="en-US" sz="2800" spc="-1" strike="noStrike">
                <a:solidFill>
                  <a:srgbClr val="046ca6"/>
                </a:solidFill>
                <a:latin typeface="华文新魏"/>
              </a:rPr>
              <a:t>AMC</a:t>
            </a: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辅助检查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实验室检查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肌酐身高指数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白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转铁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华文新魏"/>
              </a:rPr>
              <a:t>血清前清蛋白</a:t>
            </a:r>
            <a:endParaRPr b="0" lang="en-US" sz="2800" spc="-1" strike="noStrike">
              <a:solidFill>
                <a:srgbClr val="046ca6"/>
              </a:solidFill>
              <a:latin typeface="华文新魏"/>
            </a:endParaRPr>
          </a:p>
          <a:p>
            <a:pPr lvl="3" marL="1600200" indent="-228600">
              <a:spcBef>
                <a:spcPts val="601"/>
              </a:spcBef>
              <a:buClr>
                <a:srgbClr val="046ca6"/>
              </a:buClr>
              <a:buFont typeface="华文新魏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华文新魏"/>
              </a:rPr>
              <a:t>……</a:t>
            </a:r>
            <a:endParaRPr b="0" lang="en-US" sz="24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第三章 外科营养支持患者的护理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护理评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与疾病相关的健康史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了解患者疾病史、手术史等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心理社会状况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评估患者及家属对营养支持重要性和必要性的认识程度，以及对营养支持的接受程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55:27Z</dcterms:modified>
  <cp:revision>90</cp:revision>
  <dc:subject/>
  <dc:title>内科护理学</dc:title>
</cp:coreProperties>
</file>